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02D1-999D-426D-A283-17624960B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541D-FCFF-45F6-9C66-447EBE5D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E979-29E1-47A1-AFAB-369303376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F252-95B1-42FE-BD93-06F71D6EE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E7EC-5A36-4DC2-ABFC-1A04344B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7708-3912-429A-A0E4-6C40A2A3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A30F-ABBC-4109-BE05-9FFB103D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9014-73A2-4E75-8211-5FC07A04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1CEA-D324-4E2D-9CB1-703E9006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FCFD-483C-44D1-9A1C-9440C4DC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F1F1-7A45-483B-9D40-B4815877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4F4E-2366-4E8F-B9B6-332D73DE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1865-4249-4F56-9160-ED0CE1AFB2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peror Pengu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un F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Users\dwilliams2\AppData\Local\Microsoft\Windows\Temporary Internet Files\Content.IE5\TXQRI1TX\emperor_penguin_by_laogephoto-d609ou8[1].jpg"/>
          <p:cNvPicPr/>
          <p:nvPr/>
        </p:nvPicPr>
        <p:blipFill>
          <a:blip r:embed="rId2"/>
          <a:stretch/>
        </p:blipFill>
        <p:spPr>
          <a:xfrm>
            <a:off x="685800" y="2209680"/>
            <a:ext cx="35226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5T18:38:57Z</dcterms:created>
  <dc:creator>dell</dc:creator>
  <dc:description/>
  <dc:language>en-US</dc:language>
  <cp:lastModifiedBy>dell</cp:lastModifiedBy>
  <dcterms:modified xsi:type="dcterms:W3CDTF">2015-01-05T18:42:32Z</dcterms:modified>
  <cp:revision>1</cp:revision>
  <dc:subject/>
  <dc:title>Emperor Penguins</dc:title>
</cp:coreProperties>
</file>